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DBC-7D12-4E45-B7E4-95B836C0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456-9165-4548-A44F-A17A0F98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600-ED74-42BF-9E44-831F0D0C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BDFD-6864-4497-81EB-AB90C247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3688-0635-477C-82BA-04F337BC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3FA2-BDF9-4A44-B4F0-B8934B2C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04AE-29D8-4387-BFC5-87B313E7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DB36-7F3D-4B73-95D6-74770996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87CD-63B9-4894-89DE-082BF7AA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545C-90FB-48DE-A0BF-DD39ED60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2223-5AB4-4E36-A18F-FC7B80B0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EED-7AE7-418D-8084-504ADF72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079A-1D6D-4E96-B6B5-9DFBA5E2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7F8E-9100-4BE7-811C-8E015DC7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104D-9ED1-414D-88F2-8C470BBA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695C-FDA9-4E9D-BBDB-A8312044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32E1-3260-43E7-B78F-C52BDD42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891-B8BE-414F-9A84-ACED56E8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EB7-3CD1-4E84-AA06-2289F148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A33-D089-4F74-AC20-FB9AD6CA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101-02D3-4CED-A3DF-372F21F8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0BF-62FC-4281-A50E-99CD4F69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535-EFAA-44E6-A0E9-39890AA9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F5B-7100-4FAF-B631-5829CB7B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A03E-0C3F-4294-9924-F160B58FB64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kko Pohjola, T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DBDF-765F-4C26-9A29-6548352BBE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BACF-AC1E-4DCC-B7FB-67BCF10BD3B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ikko Pohjola, T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68F9-3C2F-4D7E-81C3-4279BC79D1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53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opasnet.org/w/Ymal" TargetMode="External"/><Relationship Id="rId2" Type="http://schemas.openxmlformats.org/officeDocument/2006/relationships/hyperlink" Target="http://en.opasnet.org/w/Ymal" TargetMode="External"/><Relationship Id="rId3" Type="http://schemas.openxmlformats.org/officeDocument/2006/relationships/hyperlink" Target="http://en.opasnet.org/w/Ymal" TargetMode="External"/><Relationship Id="rId4" Type="http://schemas.openxmlformats.org/officeDocument/2006/relationships/hyperlink" Target="http://fi.opasnet.org/fi/Keskustelu:Pienhiukkasten_terveysvaikutukset_Suomessa" TargetMode="External"/><Relationship Id="rId5" Type="http://schemas.openxmlformats.org/officeDocument/2006/relationships/hyperlink" Target="http://www.hs.fi/keskustelu/thread.jspa?threadID=225548&amp;messageID=4408568" TargetMode="External"/><Relationship Id="rId6" Type="http://schemas.openxmlformats.org/officeDocument/2006/relationships/hyperlink" Target="http://fi.opasnet.org/fi/Keskustelu:H&#228;meenkyr&#246;n_j&#228;tteenpolttolaitos" TargetMode="External"/><Relationship Id="rId7" Type="http://schemas.openxmlformats.org/officeDocument/2006/relationships/hyperlink" Target="http://fi.opasnet.org/fi/Keskustelu:H&#228;meenkyr&#246;n_j&#228;tteenpolttolaitos" TargetMode="External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ukkoyhteistyö ja jaetun tiedon tuottamin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4635-749D-4D41-A381-27DA44D277A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ABBD827-8798-4B24-AB2F-E173F8B7FD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ukkoyhteisty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etun tiedon tuotta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skuste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imerkkej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hteenv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AAB-CCB7-4BAF-B18E-F5C92D01AE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AE1C9-A1C9-4978-B779-0C6F977036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ukkoyhteisty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. Wikipedia, Lin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eistyötä suuren (rajaamattoman) joukon kesken ilman muodollista organisaatiorakennet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iaatteet: </a:t>
            </a: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avoimuus, vertaisuus, jakaminen ja globaali toimi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n arviointi ja Opasnet tarkoitettu tieteellisen tiedon tuottamiseen ja hyödyntämiseen yhteiskunnallisesti tärkeissä asioissa joukkoyhteistyön avu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111096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203960" y="620640"/>
            <a:ext cx="99864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864-3581-456D-A602-62EC3AB4FD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AE74B-370F-4EBE-8C82-B63C2DD707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un tiedon tuottamin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ysymyksiä ja vastauksia – tarpeita ja hypoteese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kä kysymyksiä että vastauksia niihin etsitään yhteistyö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hteisen työn tulos konkretisoi jaetun tied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don kehittyminen avoimen kritiikin ja keskustelun avu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inka jäsentää rajaamattoman osallistujajoukon yhteistyö tietoa tehokkaasti tuottavaksi toiminnaks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EEE-A812-4F5D-896B-47CADFC603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15CCE-7B49-498A-8FB1-D3D578A092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un tiedon tuottamin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400720" cy="4227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5516640"/>
            <a:ext cx="70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ukaelma kuvasta artikkelissa: </a:t>
            </a:r>
            <a:r>
              <a:rPr b="0" i="1" lang="fi-FI" sz="1200" spc="-1" strike="noStrike">
                <a:solidFill>
                  <a:srgbClr val="000000"/>
                </a:solidFill>
                <a:latin typeface="Arial"/>
              </a:rPr>
              <a:t>Harrer, A., Moskaliuk, J., Kimmerle, J., and Cress, U. 2008. Visualizing wiki-Supported knowledge building: Co-evolution of individual and collective knowledge. WikiSym 2008 Proceedings [Online]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DB0-5301-4006-8088-2EA7A263BEB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2B3C1-DFBA-4494-997B-3A828002A6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skustel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skustelu verkkotyötilan välityksellä tai sen tukem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vaus asiasta (kysymys, vastaushypoteesi ja perustelut) vs. keskustelu asiasta ja sen kuvauks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vu / keskustelusi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skustelumuod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ora asiasivun muokkaami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paa kommentoi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paiden kommenttien jäsentä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äsennetty argumenta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skustelun tulokset tulee huomioida kuvaussivulla heti kun (tilapäiseen) johtopäätökseen on pääs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8A5-7B89-4544-9D07-E506BDDDEC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D4FB1-16D1-4841-9307-4BDB4289B3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ej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paa kommentoi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Arviointi </a:t>
            </a: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2"/>
              </a:rPr>
              <a:t>YMAL:n</a:t>
            </a: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3"/>
              </a:rPr>
              <a:t> päälliköltä vaadittavista ominaisuuks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paiden kommenttien jäsentämin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ienhiukkasten terveysvaikutukset, keskustelu</a:t>
            </a: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4"/>
              </a:rPr>
              <a:t> </a:t>
            </a: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5"/>
              </a:rPr>
              <a:t>HS.fi: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6"/>
              </a:rPr>
              <a:t>Keskustelu jätteenpoltosta </a:t>
            </a: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7"/>
              </a:rPr>
              <a:t>Opasnet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hteiskunnan arvot, keskustelu HS:n mielipidepalst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äsennetty argumenta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in kohderyhm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65A-41F3-46D2-999B-622DBD3409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502AE-C3EE-46B9-B169-AD2E61DEAA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Yhteenvet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kkoyhteistyö toimii myös tieteellisen tiedon tuottamisessa ja sen hyödyntämisess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n arviointi ja Opasnet tarjoavat välineet keskustelun jäsentämi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iaate hyvä, välineet olemassa, käytännön kokemuksia tarvitaan lisää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voitteena tiedon saattaminen sinne missä sitä tarvitaan, silloin kun sitä tarvita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ityksen nimi / Tekijä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DE0-89AD-4799-B70C-15DD795C77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7E451-1DE2-4C1C-9B53-83C1556958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1:59:40Z</dcterms:created>
  <dc:creator>ctep</dc:creator>
  <dc:description/>
  <dc:language>en-US</dc:language>
  <cp:lastModifiedBy>ctep</cp:lastModifiedBy>
  <dcterms:modified xsi:type="dcterms:W3CDTF">2010-02-14T19:00:13Z</dcterms:modified>
  <cp:revision>11</cp:revision>
  <dc:subject>suomi</dc:subject>
  <dc:title>Joukkoyhteistyö ja tiedon jakaminen</dc:title>
</cp:coreProperties>
</file>